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440B-B67B-4183-BF5F-C46D96A1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F212-56BF-44D5-9108-E9D5FEC2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4830-2DB9-4A08-8B94-1F7823875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D66-42CA-4126-BF52-09832C925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7592-C71D-4701-B04A-8E7584898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518-2BAE-4B0D-9732-5249DAD4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DAC-3AE8-4B32-B23E-4C3125DD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DC65-45CE-45B9-A56D-7051E88D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0E18-8CA0-4536-A73B-3A03F0B3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6169-494A-47BC-9ECA-8824DE3E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053A-F610-42F9-B8B9-8DDED889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B988-5394-4D62-9DF8-D91F86FDF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6BB-C427-402F-BA70-FF44CC1D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029B-36F9-4A93-A53E-197FCD5E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1CF1-8EBD-4E69-9C37-51574E6DF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B8DF-F736-42D2-AA54-2FE21AC9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B2D9-80D6-48E7-908B-6C093015C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AEE5-AFBD-42CD-9DB6-ACBDAEF6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899B-6B1A-4CB9-B8B8-8B7DC709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62E-A521-4B67-AF18-406ADA15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00A-1506-428D-BA8C-589BE1FF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72F2-8114-4100-9169-23FB14B9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671-768D-465C-9F99-19440161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F130-5F53-49EC-A847-9D6290BBD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7C15-E955-4EDD-B366-6A7BD031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7AAF-3305-472A-A3ED-314C70A5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1D88-A212-4648-87BF-68FC54F6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8913-6651-46FB-B630-58AC5BA0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56AB-8C07-4225-9C35-46BE7C92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80A4-EF6B-4BC6-B734-D64DA41E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A9A-9F49-49C4-B870-A204279BF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2D9A-9919-4CA6-8C0C-0EF4C6587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2A8-D4DF-4CDC-BD10-27E91990D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E1E-F386-46C7-B5BD-970AE6379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3DCA-39BF-4FBD-AE3F-4B6071DBA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671-ADF6-4098-B351-53846B2D6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7661-1E82-49AE-B87C-5CC182587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94C-6B87-4DF8-A600-0EA526AE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5E7-8F73-4733-B6BC-038C35EF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820-6378-4503-95AC-1757B017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911-A307-4EB7-8122-11BCD347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C02-CF73-4E1E-B35F-31F153D7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A67-26CA-4877-AF7D-DDC2329A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8E9-EBB9-4C44-B52B-3D15072C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10CC-30E5-4730-B193-43F5806D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00E-D2D9-463C-BCC7-9D283AC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CF6-7113-45D0-AE29-065FF97F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5F3C-BA95-4793-8D45-97F64C57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A8D-CB6E-4698-A6FF-BD134F3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278D-6C15-4E01-9798-55FB6CFEC493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[bibliography, source list…] 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Julie S. Bau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Libraria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DuBois Area Middle Schoo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 rot="21330600">
            <a:off x="2342880" y="728280"/>
            <a:ext cx="2001600" cy="3470400"/>
          </a:xfrm>
          <a:custGeom>
            <a:avLst/>
            <a:gdLst>
              <a:gd name="textAreaLeft" fmla="*/ 0 w 2001600"/>
              <a:gd name="textAreaRight" fmla="*/ 2001960 w 2001600"/>
              <a:gd name="textAreaTop" fmla="*/ 0 h 3470400"/>
              <a:gd name="textAreaBottom" fmla="*/ 3470760 h 347040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75" name="Straight Arrow Connector 8"/>
          <p:cNvCxnSpPr/>
          <p:nvPr/>
        </p:nvCxnSpPr>
        <p:spPr>
          <a:xfrm>
            <a:off x="3275640" y="685800"/>
            <a:ext cx="1524600" cy="3658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3_help_popup.png"/>
          <p:cNvPicPr/>
          <p:nvPr/>
        </p:nvPicPr>
        <p:blipFill>
          <a:blip r:embed="rId2"/>
          <a:stretch/>
        </p:blipFill>
        <p:spPr>
          <a:xfrm>
            <a:off x="3746520" y="457200"/>
            <a:ext cx="5322960" cy="4648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Rectangle 14"/>
          <p:cNvSpPr/>
          <p:nvPr/>
        </p:nvSpPr>
        <p:spPr>
          <a:xfrm>
            <a:off x="1828800" y="3352680"/>
            <a:ext cx="4495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2_fill_form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666880" y="22860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Some fields are require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5638680" y="4419720"/>
            <a:ext cx="19051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4_annotation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3581280" y="3886200"/>
            <a:ext cx="320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dd an annotation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4_annotation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2819520" y="2971800"/>
            <a:ext cx="25905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5_spelling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Oval 6"/>
          <p:cNvSpPr/>
          <p:nvPr/>
        </p:nvSpPr>
        <p:spPr>
          <a:xfrm>
            <a:off x="2971800" y="2971800"/>
            <a:ext cx="32767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5_spelling_fix.png"/>
          <p:cNvPicPr/>
          <p:nvPr/>
        </p:nvPicPr>
        <p:blipFill>
          <a:blip r:embed="rId1"/>
          <a:stretch/>
        </p:blipFill>
        <p:spPr>
          <a:xfrm>
            <a:off x="130320" y="0"/>
            <a:ext cx="88833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23880" y="38098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Pick the correct spelling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5_spelling_right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457200" y="3581280"/>
            <a:ext cx="4876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Sometimes it’s not wrong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6_Check_errors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457200" y="3581280"/>
            <a:ext cx="2743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en you’re done, check your work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or errors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Freeform 10"/>
          <p:cNvSpPr/>
          <p:nvPr/>
        </p:nvSpPr>
        <p:spPr>
          <a:xfrm flipH="1">
            <a:off x="2994840" y="4495680"/>
            <a:ext cx="2490840" cy="1193760"/>
          </a:xfrm>
          <a:custGeom>
            <a:avLst/>
            <a:gdLst>
              <a:gd name="textAreaLeft" fmla="*/ -360 w 2490840"/>
              <a:gd name="textAreaRight" fmla="*/ 2490840 w 2490840"/>
              <a:gd name="textAreaTop" fmla="*/ 0 h 1193760"/>
              <a:gd name="textAreaBottom" fmla="*/ 1194120 h 119376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Mak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6_Check_errors_fix.png"/>
          <p:cNvPicPr/>
          <p:nvPr/>
        </p:nvPicPr>
        <p:blipFill>
          <a:blip r:embed="rId1"/>
          <a:stretch/>
        </p:blipFill>
        <p:spPr>
          <a:xfrm>
            <a:off x="152280" y="0"/>
            <a:ext cx="8875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867280" y="3352680"/>
            <a:ext cx="3276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523880" y="48006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Here’s your first citation!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685800" y="480060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You can open the form </a:t>
            </a: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edit it agai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 rot="10191000">
            <a:off x="6730560" y="3292200"/>
            <a:ext cx="1774800" cy="220644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2206440"/>
              <a:gd name="textAreaBottom" fmla="*/ 2206440 h 220644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447920" y="46483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lick to see a sample in-text reference for your sourc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7391520" y="3200400"/>
            <a:ext cx="129528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5" name="Straight Arrow Connector 8"/>
          <p:cNvCxnSpPr/>
          <p:nvPr/>
        </p:nvCxnSpPr>
        <p:spPr>
          <a:xfrm flipV="1">
            <a:off x="3200040" y="3428640"/>
            <a:ext cx="4267800" cy="1296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8_Parenthetical.png"/>
          <p:cNvPicPr/>
          <p:nvPr/>
        </p:nvPicPr>
        <p:blipFill>
          <a:blip r:embed="rId2"/>
          <a:stretch/>
        </p:blipFill>
        <p:spPr>
          <a:xfrm>
            <a:off x="1790640" y="1047600"/>
            <a:ext cx="5562720" cy="4762800"/>
          </a:xfrm>
          <a:prstGeom prst="rect">
            <a:avLst/>
          </a:prstGeom>
          <a:ln w="0">
            <a:noFill/>
          </a:ln>
        </p:spPr>
      </p:pic>
      <p:sp>
        <p:nvSpPr>
          <p:cNvPr id="108" name="Oval 9"/>
          <p:cNvSpPr/>
          <p:nvPr/>
        </p:nvSpPr>
        <p:spPr>
          <a:xfrm>
            <a:off x="1371600" y="1219320"/>
            <a:ext cx="3352680" cy="1600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09" name="Straight Arrow Connector 8"/>
          <p:cNvCxnSpPr/>
          <p:nvPr/>
        </p:nvCxnSpPr>
        <p:spPr>
          <a:xfrm flipH="1" flipV="1">
            <a:off x="4876560" y="2437920"/>
            <a:ext cx="2591280" cy="915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7_First_citation.png"/>
          <p:cNvPicPr/>
          <p:nvPr/>
        </p:nvPicPr>
        <p:blipFill>
          <a:blip r:embed="rId1"/>
          <a:stretch/>
        </p:blipFill>
        <p:spPr>
          <a:xfrm>
            <a:off x="133200" y="0"/>
            <a:ext cx="88776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1447920" y="48006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If you’re confused…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7543800" y="3276720"/>
            <a:ext cx="12193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Freeform 10"/>
          <p:cNvSpPr/>
          <p:nvPr/>
        </p:nvSpPr>
        <p:spPr>
          <a:xfrm rot="12453600">
            <a:off x="6775200" y="3364920"/>
            <a:ext cx="1447560" cy="236052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9_Have_question.png"/>
          <p:cNvPicPr/>
          <p:nvPr/>
        </p:nvPicPr>
        <p:blipFill>
          <a:blip r:embed="rId1"/>
          <a:stretch/>
        </p:blipFill>
        <p:spPr>
          <a:xfrm>
            <a:off x="135000" y="0"/>
            <a:ext cx="887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Oval 9"/>
          <p:cNvSpPr/>
          <p:nvPr/>
        </p:nvSpPr>
        <p:spPr>
          <a:xfrm>
            <a:off x="76320" y="1371600"/>
            <a:ext cx="3352680" cy="1066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9_Have_question_entered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Oval 9"/>
          <p:cNvSpPr/>
          <p:nvPr/>
        </p:nvSpPr>
        <p:spPr>
          <a:xfrm>
            <a:off x="304920" y="3352680"/>
            <a:ext cx="3352680" cy="1067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9_Have_question_entered.png"/>
          <p:cNvPicPr/>
          <p:nvPr/>
        </p:nvPicPr>
        <p:blipFill>
          <a:blip r:embed="rId1"/>
          <a:stretch/>
        </p:blipFill>
        <p:spPr>
          <a:xfrm>
            <a:off x="15228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1676520" y="5029200"/>
            <a:ext cx="51814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ome questions kids have asked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All this is new to me …how can I tell what’s common knowledg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If I wrote it for another class, do I quote myself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What if I don’t have the page number because I returned the book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How do I cite You Tube</a:t>
            </a: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ignin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9_Self_assess.png"/>
          <p:cNvPicPr/>
          <p:nvPr/>
        </p:nvPicPr>
        <p:blipFill>
          <a:blip r:embed="rId1"/>
          <a:stretch/>
        </p:blipFill>
        <p:spPr>
          <a:xfrm>
            <a:off x="127080" y="0"/>
            <a:ext cx="888984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Oval 19"/>
          <p:cNvSpPr/>
          <p:nvPr/>
        </p:nvSpPr>
        <p:spPr>
          <a:xfrm>
            <a:off x="3200400" y="2057400"/>
            <a:ext cx="121932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981080" y="12952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elf-assess your work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9_List_analysis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6"/>
          <p:cNvSpPr/>
          <p:nvPr/>
        </p:nvSpPr>
        <p:spPr>
          <a:xfrm>
            <a:off x="1447920" y="22860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sk yourself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27" name="Picture 11" descr="analysis2f"/>
          <p:cNvPicPr/>
          <p:nvPr/>
        </p:nvPicPr>
        <p:blipFill>
          <a:blip r:embed="rId2"/>
          <a:stretch/>
        </p:blipFill>
        <p:spPr>
          <a:xfrm>
            <a:off x="12600" y="6364440"/>
            <a:ext cx="9118800" cy="493560"/>
          </a:xfrm>
          <a:prstGeom prst="rect">
            <a:avLst/>
          </a:prstGeom>
          <a:ln w="0">
            <a:noFill/>
          </a:ln>
        </p:spPr>
      </p:pic>
      <p:cxnSp>
        <p:nvCxnSpPr>
          <p:cNvPr id="128" name="Straight Arrow Connector 9"/>
          <p:cNvCxnSpPr/>
          <p:nvPr/>
        </p:nvCxnSpPr>
        <p:spPr>
          <a:xfrm>
            <a:off x="3809880" y="533520"/>
            <a:ext cx="13723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Straight Arrow Connector 10"/>
          <p:cNvCxnSpPr/>
          <p:nvPr/>
        </p:nvCxnSpPr>
        <p:spPr>
          <a:xfrm>
            <a:off x="2971800" y="2284560"/>
            <a:ext cx="19058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Straight Arrow Connector 11"/>
          <p:cNvCxnSpPr/>
          <p:nvPr/>
        </p:nvCxnSpPr>
        <p:spPr>
          <a:xfrm>
            <a:off x="3733560" y="4646160"/>
            <a:ext cx="19054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Straight Arrow Connector 12"/>
          <p:cNvCxnSpPr/>
          <p:nvPr/>
        </p:nvCxnSpPr>
        <p:spPr>
          <a:xfrm>
            <a:off x="2361960" y="6477120"/>
            <a:ext cx="190548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91_Teacher_comment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6629400" y="2057400"/>
            <a:ext cx="198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Get comment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and ideas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410080" y="380880"/>
            <a:ext cx="31244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Share your list with [Teacher’s name]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Double Bracket 6"/>
          <p:cNvSpPr/>
          <p:nvPr/>
        </p:nvSpPr>
        <p:spPr>
          <a:xfrm>
            <a:off x="304920" y="1828800"/>
            <a:ext cx="6248160" cy="15238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590920" y="15228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hoose format before exporting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7" name="Picture 6" descr="91_Word_list.png"/>
          <p:cNvPicPr/>
          <p:nvPr/>
        </p:nvPicPr>
        <p:blipFill>
          <a:blip r:embed="rId1"/>
          <a:stretch/>
        </p:blipFill>
        <p:spPr>
          <a:xfrm>
            <a:off x="228600" y="1096920"/>
            <a:ext cx="6946920" cy="5761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91_Formatting_options.png"/>
          <p:cNvPicPr/>
          <p:nvPr/>
        </p:nvPicPr>
        <p:blipFill>
          <a:blip r:embed="rId2"/>
          <a:stretch/>
        </p:blipFill>
        <p:spPr>
          <a:xfrm>
            <a:off x="2971800" y="2946240"/>
            <a:ext cx="6072120" cy="274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keep_lists.png"/>
          <p:cNvPicPr/>
          <p:nvPr/>
        </p:nvPicPr>
        <p:blipFill>
          <a:blip r:embed="rId1"/>
          <a:stretch/>
        </p:blipFill>
        <p:spPr>
          <a:xfrm>
            <a:off x="22320" y="0"/>
            <a:ext cx="909936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8"/>
          <p:cNvSpPr/>
          <p:nvPr/>
        </p:nvSpPr>
        <p:spPr>
          <a:xfrm>
            <a:off x="990720" y="106668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Keep all your list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[essay, project…]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[MLA, APA or Chicago/Turabian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[name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_create_list.png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7391520" y="182880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280" y="198108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_create_list.png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609480" y="2895480"/>
            <a:ext cx="32767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1_create_list_named.png"/>
          <p:cNvPicPr/>
          <p:nvPr/>
        </p:nvPicPr>
        <p:blipFill>
          <a:blip r:embed="rId1"/>
          <a:stretch/>
        </p:blipFill>
        <p:spPr>
          <a:xfrm>
            <a:off x="12384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Oval 5"/>
          <p:cNvSpPr/>
          <p:nvPr/>
        </p:nvSpPr>
        <p:spPr>
          <a:xfrm>
            <a:off x="685800" y="4724280"/>
            <a:ext cx="23623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48320" y="5105520"/>
            <a:ext cx="32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ame your lis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ropdown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3733920" y="266688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 kind of source are you going to cite?</a:t>
            </a:r>
            <a:br>
              <a:rPr sz="3200"/>
            </a:b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85800" y="47242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228600" y="1600200"/>
            <a:ext cx="335268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_more_about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495680" y="1828800"/>
            <a:ext cx="4267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nswer the ques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about your sour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2_fill_form_blank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352680" y="3049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a202"/>
                </a:solidFill>
                <a:latin typeface="Arial"/>
              </a:rPr>
              <a:t>The right form for your source!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jbaun</cp:lastModifiedBy>
  <dcterms:modified xsi:type="dcterms:W3CDTF">2009-08-27T00:45:33Z</dcterms:modified>
  <cp:revision>96</cp:revision>
  <dc:subject/>
  <dc:title>Creating a Bibliography or Source List</dc:title>
</cp:coreProperties>
</file>